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A60C-2901-4B25-A7AE-A883265E4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B0CC-4101-4E0C-BEDE-0824C8DEC14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C395-CA19-4A77-967F-4AE843EA953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676A-8406-4E6A-8FA6-40DFF7B7EB7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6141-9402-4BEA-A1DA-FE5B5DC512E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4E41-A12F-4BD7-85A9-273C28EC5F9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09F-444A-49CE-9150-F4B542AE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3D04-AF6D-4799-BCD8-E102CC1B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8A2C-C5B6-49CF-90C4-0FF08972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C30-28B0-4291-9A90-A30FB5F6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578F-C216-42D2-A32D-91885AEC9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62A4-93AB-409D-89E4-3C2FD6A1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5BE5-F746-4F28-AE30-7C326FC0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4F85-CAD7-4493-8B2D-E06243FC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DED6-1ACB-42A8-B46A-5A9912AF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AF43-4CE3-4364-8218-B5AB1C33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FD38-4A0F-4E7E-A8A0-FC305F2F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87E-05CE-4799-B6A3-790A765B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B3D1-AD3F-438F-8D68-F284063E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CCBE-FD57-4F12-8B14-51AB85BB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5F01-58BA-47EF-B0A3-6AD88EDC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EDFC-11BE-4AF5-9355-4A90E732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95FF-BAD9-490A-8558-F6D0D863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6D8B-7F4F-45F9-BB3F-96F5103C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E26-FB03-4FCD-9A8F-868C93EA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8F62-6C12-41C1-BADF-F4409E49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5E06-9662-41D9-BA8C-8BDFF371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621-1638-4B6C-8344-F5A92BF3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E4ED-FB27-458B-B833-68A1F500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6714-6CD7-4A9E-A8B9-2B3924C3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371B-F0CC-41BA-8702-CCB7A51DCD6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AE45-DFB3-431E-B061-DE74B66C628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hapter 23 – Landscape Ecology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Ecotone -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lending of two different ecosyste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ees and grasses meeting and overlapp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py the draw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2"/>
          <a:stretch/>
        </p:blipFill>
        <p:spPr>
          <a:xfrm>
            <a:off x="4800600" y="360036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"/>
          <p:cNvPicPr/>
          <p:nvPr/>
        </p:nvPicPr>
        <p:blipFill>
          <a:blip r:embed="rId3"/>
          <a:stretch/>
        </p:blipFill>
        <p:spPr>
          <a:xfrm>
            <a:off x="380880" y="3909960"/>
            <a:ext cx="403884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30492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Ed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re two different landscapes mee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eld bordering a fore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be caused by soil differences, fire, grazing, farming, et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47560" indent="-41112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5029200" y="3724200"/>
            <a:ext cx="41148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ndscape Mosa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d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tch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cot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dge effe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rrido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4c3aa"/>
                </a:solidFill>
                <a:uFillTx/>
                <a:latin typeface="Arial"/>
              </a:rPr>
              <a:t>Edge Effec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10634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ypically more biodiversity around edges because of varied plant communi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47560" indent="-41112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 Ruffed Grou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47560" indent="-41112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eds a variety of plan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ver for it’s food, nest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d courting behavi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5410080" y="3675240"/>
            <a:ext cx="3733920" cy="31827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2"/>
          <a:stretch/>
        </p:blipFill>
        <p:spPr>
          <a:xfrm>
            <a:off x="380880" y="4470480"/>
            <a:ext cx="28958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4191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43520" indent="-33300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Landscape mosaic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-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0308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quilt-work of different habita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0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0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0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0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0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43520" indent="-33300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atch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0308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tinct communiti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ing up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a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4419720" cy="31273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"/>
          <p:cNvPicPr/>
          <p:nvPr/>
        </p:nvPicPr>
        <p:blipFill>
          <a:blip r:embed="rId2"/>
          <a:stretch/>
        </p:blipFill>
        <p:spPr>
          <a:xfrm>
            <a:off x="0" y="1752480"/>
            <a:ext cx="3886200" cy="2509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"/>
          <p:cNvPicPr/>
          <p:nvPr/>
        </p:nvPicPr>
        <p:blipFill>
          <a:blip r:embed="rId3"/>
          <a:stretch/>
        </p:blipFill>
        <p:spPr>
          <a:xfrm>
            <a:off x="4800600" y="3490920"/>
            <a:ext cx="434340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15238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Verdana"/>
              </a:rPr>
              <a:t>Corrido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rips of vegetation that connect one patch with anoth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unction as travel lanes for organis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ually created by hum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47560" indent="-411120">
              <a:spcBef>
                <a:spcPts val="7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47560" indent="-411120">
              <a:spcBef>
                <a:spcPts val="7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648320" y="1600200"/>
            <a:ext cx="403848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0" name="Picture 1" descr=""/>
          <p:cNvPicPr/>
          <p:nvPr/>
        </p:nvPicPr>
        <p:blipFill>
          <a:blip r:embed="rId1"/>
          <a:stretch/>
        </p:blipFill>
        <p:spPr>
          <a:xfrm>
            <a:off x="4915080" y="0"/>
            <a:ext cx="4228920" cy="31719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"/>
          <p:cNvPicPr/>
          <p:nvPr/>
        </p:nvPicPr>
        <p:blipFill>
          <a:blip r:embed="rId2"/>
          <a:stretch/>
        </p:blipFill>
        <p:spPr>
          <a:xfrm>
            <a:off x="5334120" y="2563920"/>
            <a:ext cx="380988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2:24:42Z</dcterms:created>
  <dc:creator>SASD</dc:creator>
  <dc:description/>
  <dc:language>en-US</dc:language>
  <cp:lastModifiedBy>SASD</cp:lastModifiedBy>
  <dcterms:modified xsi:type="dcterms:W3CDTF">2011-11-17T12:25:02Z</dcterms:modified>
  <cp:revision>1</cp:revision>
  <dc:subject/>
  <dc:title>Chapter 23 – Landscape Ecology</dc:title>
</cp:coreProperties>
</file>